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jpeg" ContentType="image/jpeg"/>
  <Override PartName="/ppt/media/image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B3BA0-2DE2-4E58-9E56-829F694A7F4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B42C3-6E87-4AD7-AEB3-BE3B6684048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D2775-931B-4203-BE6B-16202BC447D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46EE5-F896-4004-8548-1E9B5BE3E7B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FF606-41B0-4E70-B6F9-6853DC4F1E3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AFB0-E74F-4B34-B825-E6F5B8B48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DF04-278D-449F-9E2E-E6587AF1E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F69AC3-5011-49F2-9B33-446508380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2421B8-0F26-4D85-B985-1C9F5B5E4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5152DE-7B39-4CB7-91E4-B07934BA1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6EBEB3-4C89-4E8B-8843-9CD5BD496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616AB4-E9EE-4C18-8732-F3822C71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D904C2-3D13-4E76-82F1-75634B185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F942D3-E523-45D2-B7FF-26248B269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6CE1E3-073A-489B-9EDD-0A1903562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D2B359-E8D7-48C1-824B-EF13268B6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2B1A-0FFB-4524-BFF1-44371CF88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A62E-516B-4DEF-A9AF-2479E1155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3CB20-8EC0-434F-B55A-F69C22686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916B0-CD67-46ED-B8C0-0D0838CAB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84F72-5686-4C45-9E43-99F52E239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91697-563F-4E62-A0EA-1BE15CD60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1FC1C-494B-4306-BD8B-C9304566E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F2401-5A60-4B0C-8D5B-33752B4E3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00A94-EFF0-4A81-83A9-E3F6A5423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3CE4-97E8-4470-B832-9025837B0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0B010-0BD1-4723-86AD-0D6D2B9A1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31C46-FC69-40C2-80EB-DB7C1838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D4D53-3FBA-4A13-BE2F-99F664F33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EEB85-BEBC-47BC-BB6F-B97361AE6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99CC3-78B9-4251-BF6A-D0A351E41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A7D26-203C-4CA2-8005-239696CFC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ECA67-043A-400A-AF08-78736CB62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68B14-4361-4E2C-B632-9283ECEF0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266D1-B7B8-4469-B40F-22EB2F283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BF27B-06BC-4A98-9B2B-D6F438D18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EA16-721E-43D9-88E8-4543E7133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30FC0-F233-43E0-B7EF-DD671A5AE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88552-E835-4C65-9BB1-8C5CFEFE5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F0822-B640-4C49-AFEA-69B339A14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208B9-D38E-410A-A35D-7630C5DA9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6BCFD-2F5B-4EA7-9F94-1392FFF5B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00C89-6FC6-4B29-9264-50ED1997E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90A40-F37D-4304-9503-40C0A8023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FCBF9-487E-4A78-A987-4B264D769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9D1EF-F8B6-4CEA-9CAE-1B8FDED9E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C099B-B131-482A-8B4F-4C821E68D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D989-650F-4756-BA4F-818CF7838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8E934-65E7-4A2F-8281-B4E09B9D6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8CCEF-241B-47D3-8135-BDC99157B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69B9A-991F-439A-9CF7-AEE58410F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CDFB4-9C5F-4DE4-A871-43EBFFA4C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D5772-8B53-485A-A1E8-5BCE7EE9A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DA080-F927-4A56-B2A8-EDE1143D1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4400B-129B-4841-933C-5560C19B9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C5B58-4F79-491F-8E15-0B338D6A1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A977A-E253-4B89-811D-027B5A591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5FE8E7-19B9-4ED3-8F51-6347A0A90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03FA-0A8E-4E6B-8815-16BE63D26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478F0-5F3B-440D-B7AE-F923A67B1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BBAD43-2DDA-47B5-9919-C2AD0137A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309EE-EC77-436F-8B97-C2D49D361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DD6C66-1791-462B-9FE1-9B18FA5B2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769A3-5F21-4C6B-8961-A36D2D2D0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048F6-A28E-4C6C-9D5B-9419AC804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DCD68-726D-46D0-91A7-60A5D0E2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707E87-15B5-41D5-B920-4C48B89DE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A16D71-5ACA-4A4A-B8A3-1489FEEFB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0DF93C-E95B-4A06-B130-B3AEBF2B8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C7B7-51D5-4CA7-9B68-19082F60B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0B629-6998-408E-9F74-17C34D037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DCCF90-4B09-41C8-A889-53482FA34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9B1C92-CF58-4FF6-8299-B2C09D169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1FD5C3-6BCD-4318-AB9C-C4498FE12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9C0E53-A70A-4151-8399-C8FAA70BC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2BA4FF-6FDF-404D-A78E-C64B5CC68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180673-F681-452F-B87C-2A543D7EC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94816B-FB74-4469-BC37-76BF47EAB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01C53E-92F7-487A-8A70-EB29605B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3390EE-DCC7-4C52-B2D5-3C1843A1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D0BC-915A-4102-BC8B-C80FD83A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CC61B8-DC82-49E6-82B5-36B3BB84F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9EE969-C108-4B76-9D67-F4FD69298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16EB19-CA9F-4EDC-B9B4-1B85F6C67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B96578-8D04-4372-A885-8EB1093FA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DA167E-B00A-467C-B453-A32C76751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6695A2-D94E-4576-A7A6-E3A33B8B9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666629-380B-43A7-BF67-4ABEF5045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4D5A2F-B979-4B8C-B5AB-08E6513CC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453F64-31B7-4D7E-AA01-E97A44F11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8C7D57-DE86-44BE-96C1-F132F6F2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4E96-1DDF-4C78-8CFD-D82B88624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B1AB0C-BB71-4C31-A448-CF4731F46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D5978A-0065-4CE4-9A01-DA06FD30D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2F92B4-7358-4DD9-B5A0-69163110D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4DA5AD-08CB-47BD-B741-FA34D07AE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276ADA-D4D2-48F6-80CB-26B9D9661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8C70E1-9622-4364-A970-FBE32D304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9804C8-2759-4AAF-906A-6BA7CC2A8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F11228-22C9-47FC-AA4D-DE2EA1B09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24DFBC-61FB-4297-A3A7-DF2DCD009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E4CECF-71FE-4204-BDA4-D7D1FC3F0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BEAC-5EDA-4B41-B44A-6E40A2795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9C1071-099F-4A45-9876-1C2CF7E20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F32851-E86F-4B52-BC9F-F8D86274D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6737F5-559E-4A1A-BEF2-3CCAC06F6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355BBD-B67F-4D01-96A3-8E75A890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C6BAEA-E0C9-4062-BE49-C34A7F95A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CEF5C5-1087-4FB2-BA1A-D478204AA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CC057A-9001-48CA-81FC-D94CCDD37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C980EC-404E-4F13-B859-FC98022D3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642A3C-4C1A-4F76-80BB-2FF51C106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D75FA6-19BB-4E7E-8FB4-88C212467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98213-4B2B-4A89-90B4-E372D5CD2EE3}" type="slidenum">
              <a:rPr b="0" lang="en-GB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E672E-F0FB-4757-BA2A-0F3B1EE3396D}" type="slidenum">
              <a:rPr b="0" lang="en-GB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86C27-1C92-4EB7-986C-05CCE72D9349}" type="slidenum">
              <a:rPr b="0" lang="en-GB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4C7D1-7AAB-4A52-B924-C0430715A56B}" type="slidenum">
              <a:rPr b="0" lang="en-GB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EC91E-2859-4ED0-AE84-4F5713BC3553}" type="slidenum">
              <a:rPr b="0" lang="en-GB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CDE35-9A9D-46D6-972F-4F79E903C897}" type="slidenum">
              <a:rPr b="0" lang="en-GB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E10FE-93D9-447D-A4D7-F8B78995374D}" type="slidenum">
              <a:rPr b="0" lang="en-GB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06080-2AA3-404B-A584-580E41BF7A8C}" type="slidenum">
              <a:rPr b="0" lang="en-GB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093F3-BE4D-4D72-B5BD-3A60B4B97877}" type="slidenum">
              <a:rPr b="0" lang="en-GB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Title 1" descr=""/>
          <p:cNvPicPr/>
          <p:nvPr/>
        </p:nvPicPr>
        <p:blipFill>
          <a:blip r:embed="rId1"/>
          <a:stretch/>
        </p:blipFill>
        <p:spPr>
          <a:xfrm>
            <a:off x="182520" y="4761000"/>
            <a:ext cx="8663040" cy="168912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380520" y="856800"/>
            <a:ext cx="8458200" cy="207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443329"/>
                </a:solidFill>
                <a:latin typeface="Blue Ridge Heavy SF"/>
              </a:rPr>
              <a:t>EDUCATING THE 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443329"/>
                </a:solidFill>
                <a:latin typeface="Blue Ridge Heavy SF"/>
              </a:rPr>
              <a:t>INTROVERTED CHILD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304920" y="1553760"/>
            <a:ext cx="8686800" cy="50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e3b30"/>
                </a:solidFill>
                <a:latin typeface="Franklin Gothic Book"/>
              </a:rPr>
              <a:t>Constantly seek attention and external rewards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e3b30"/>
                </a:solidFill>
                <a:latin typeface="Franklin Gothic Book"/>
              </a:rPr>
              <a:t>Require too much stimulation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e3b30"/>
                </a:solidFill>
                <a:latin typeface="Franklin Gothic Book"/>
              </a:rPr>
              <a:t>People and crowd-pleasers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e3b30"/>
                </a:solidFill>
                <a:latin typeface="Franklin Gothic Book"/>
              </a:rPr>
              <a:t>Compromise their values to gain acceptance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e3b30"/>
                </a:solidFill>
                <a:latin typeface="Franklin Gothic Book"/>
              </a:rPr>
              <a:t>Showy, loud, overbearing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e3b30"/>
                </a:solidFill>
                <a:latin typeface="Franklin Gothic Book"/>
              </a:rPr>
              <a:t>Anxious about how they appear to others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e3b30"/>
                </a:solidFill>
                <a:latin typeface="Franklin Gothic Book"/>
              </a:rPr>
              <a:t>Short attention span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e3b30"/>
                </a:solidFill>
                <a:latin typeface="Franklin Gothic Book"/>
              </a:rPr>
              <a:t>Rely on society’s values as moral compass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e3b30"/>
                </a:solidFill>
                <a:latin typeface="Franklin Gothic Book"/>
              </a:rPr>
              <a:t>Overpower others with their ideas even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e3b30"/>
                </a:solidFill>
                <a:latin typeface="Franklin Gothic Book"/>
              </a:rPr>
              <a:t>if wrong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Down Arrow 3"/>
          <p:cNvSpPr/>
          <p:nvPr/>
        </p:nvSpPr>
        <p:spPr>
          <a:xfrm>
            <a:off x="214200" y="1643040"/>
            <a:ext cx="571680" cy="4857840"/>
          </a:xfrm>
          <a:prstGeom prst="downArrow">
            <a:avLst>
              <a:gd name="adj1" fmla="val 50000"/>
              <a:gd name="adj2" fmla="val 50001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 txBox="1"/>
          <p:nvPr/>
        </p:nvSpPr>
        <p:spPr>
          <a:xfrm>
            <a:off x="304920" y="1553760"/>
            <a:ext cx="8686800" cy="50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Loud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Lots of distractions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Group work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Need to fit in/conform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Little time to self or being self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Few opportunities to regenerate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Constant dynamics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Conflict of time, space, expectations and temperament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Introverts need to learn coping strategies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 txBox="1"/>
          <p:nvPr/>
        </p:nvSpPr>
        <p:spPr>
          <a:xfrm>
            <a:off x="304920" y="1554120"/>
            <a:ext cx="868680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4e3b30"/>
                </a:solidFill>
                <a:latin typeface="Franklin Gothic Book"/>
              </a:rPr>
              <a:t>Introvert pupils need time to think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4e3b30"/>
                </a:solidFill>
                <a:latin typeface="Franklin Gothic Book"/>
              </a:rPr>
              <a:t>Large groups can overwhelm them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4e3b30"/>
                </a:solidFill>
                <a:latin typeface="Franklin Gothic Book"/>
              </a:rPr>
              <a:t>They require opportunities to contribute without being in the spotlight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4e3b30"/>
                </a:solidFill>
                <a:latin typeface="Franklin Gothic Book"/>
              </a:rPr>
              <a:t>They will perform better with individual project work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4e3b30"/>
                </a:solidFill>
                <a:latin typeface="Franklin Gothic Book"/>
              </a:rPr>
              <a:t>School should have quiet study areas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4e3b30"/>
                </a:solidFill>
                <a:latin typeface="Franklin Gothic Book"/>
              </a:rPr>
              <a:t>Introverts should give themselves permission to be who they are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4e3b30"/>
                </a:solidFill>
                <a:latin typeface="Franklin Gothic Book"/>
              </a:rPr>
              <a:t>‘</a:t>
            </a:r>
            <a:r>
              <a:rPr b="0" lang="en-GB" sz="2700" spc="-1" strike="noStrike">
                <a:solidFill>
                  <a:srgbClr val="4e3b30"/>
                </a:solidFill>
                <a:latin typeface="Franklin Gothic Book"/>
              </a:rPr>
              <a:t>Conforming’ and ‘fitting in’ can contribute to adult neurosis later in life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4e3b30"/>
                </a:solidFill>
                <a:latin typeface="Franklin Gothic Book"/>
              </a:rPr>
              <a:t>The pressure to process information quickly puts introverts at a disadvantage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4e3b30"/>
                </a:solidFill>
                <a:latin typeface="Franklin Gothic Book"/>
              </a:rPr>
              <a:t>Parents/carers should be involved in the process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4e3b30"/>
                </a:solidFill>
                <a:latin typeface="Franklin Gothic Book"/>
              </a:rPr>
              <a:t>Introverts attend to what interests them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4e3b30"/>
                </a:solidFill>
                <a:latin typeface="Franklin Gothic Book"/>
              </a:rPr>
              <a:t>They receive and process information through slower pathways in their brains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4e3b30"/>
                </a:solidFill>
                <a:latin typeface="Franklin Gothic Book"/>
              </a:rPr>
              <a:t>Complex perceptions and ideas are synthesised during periods of rest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4e3b30"/>
                </a:solidFill>
                <a:latin typeface="Franklin Gothic Book"/>
              </a:rPr>
              <a:t>They thrive with acceptance and patience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4e3b30"/>
                </a:solidFill>
                <a:latin typeface="Franklin Gothic Book"/>
              </a:rPr>
              <a:t>They require a sense of ownership of the problem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4e3b30"/>
                </a:solidFill>
                <a:latin typeface="Franklin Gothic Book"/>
              </a:rPr>
              <a:t>They like clear instructions and information. 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4e3b30"/>
                </a:solidFill>
                <a:latin typeface="Franklin Gothic Book"/>
              </a:rPr>
              <a:t>They enjoy polishing their ideas. (Perfectionism)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4e3b30"/>
                </a:solidFill>
                <a:latin typeface="Franklin Gothic Book"/>
              </a:rPr>
              <a:t>They believe rewards should come to those who wait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Introverts can be forgotten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Introverts can get lost in the crowd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They are frequently misunderstood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They can be labelled and typecast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Classrooms can be too loud and distracting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Introverts can feel rejected if their effort is not acknowledged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Introverts are not good at quick responses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Only a tiny fraction of an introvert’s talents can be seen in a conventional class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Use visual keys, music, metaphors. (Abstract)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Prefer unstructured creative time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Like to make connections with the familiar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Synthesise new concepts from diverse sources of information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Excel with private coursework/projects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Are naturally curious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Need flexibility to pursue pathways of thought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Take in and adapt new information with ease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Need clear instructions and expectations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Want grading criteria explained in advance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Want to know what it takes to pass/succeed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Work best with words and numbers. (Concrete)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Like logical problem-solving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Prefer critical analysis to abstract conceptualisation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Wish to use investigative skills independently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Prefer written, structured reports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Steven Spielberg</a:t>
            </a: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George Lucas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Albert Einstein</a:t>
            </a: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Michelangelo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Harrison Ford</a:t>
            </a: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Johnny Depp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Abraham Lincoln</a:t>
            </a: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Mahatma Gandhi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Clint Eastwood</a:t>
            </a: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Michael Jordan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Charles Schulz</a:t>
            </a: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Florence Nightingale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Jane Austin</a:t>
            </a: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Mary Shelley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Gwyneth Paltrow</a:t>
            </a: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Michele Pfeiffer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Louis Pasteur</a:t>
            </a: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Charles Darwin 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Bruce Lee</a:t>
            </a: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Aung San Suu Kyi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Sir Alec Guinness</a:t>
            </a: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Sir Anthony Hopkins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GB" sz="19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“</a:t>
            </a: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Democracy survives because of the watchful guidance of a minority.”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“</a:t>
            </a: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Without the few, the many are nothing.”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“</a:t>
            </a: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If we can not now end our differences, at least let us make the world safe for diversity.”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“</a:t>
            </a: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Introversion is the state or tendency toward being wholly or predominantly concerned with one’s own mental life.”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“</a:t>
            </a: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Extraversion is the state or habit of seeking      gratification from outside the self.”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304920" y="1553760"/>
            <a:ext cx="8686800" cy="50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Carl Jung popularised the terms introvert and extravert to refer to temperaments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Hans Eysenck presumed the differences to be the result of brain chemistry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The importance of genetics in determining temperament is controversial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Personality questionnaires (Myers-Briggs, Keirsey, Minnesota Multiphasic) help employers and career counsellors to determine appropriate traits but are not the whole picture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304920" y="1553760"/>
            <a:ext cx="8686800" cy="50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e3b30"/>
                </a:solidFill>
                <a:latin typeface="Franklin Gothic Book"/>
              </a:rPr>
              <a:t>The celebrity, me-too culture disadvantages introverts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e3b30"/>
                </a:solidFill>
                <a:latin typeface="Franklin Gothic Book"/>
              </a:rPr>
              <a:t>Parents can sometimes think there is something wrong with their introverted child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e3b30"/>
                </a:solidFill>
                <a:latin typeface="Franklin Gothic Book"/>
              </a:rPr>
              <a:t>Introvert children can be the subject of bullying if they do not fit in or conform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e3b30"/>
                </a:solidFill>
                <a:latin typeface="Franklin Gothic Book"/>
              </a:rPr>
              <a:t>Introverted pupils can be easily overlooked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e3b30"/>
                </a:solidFill>
                <a:latin typeface="Franklin Gothic Book"/>
              </a:rPr>
              <a:t>Introversion and extraversion are normal temperaments at opposite ends of a spectrum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e3b30"/>
                </a:solidFill>
                <a:latin typeface="Franklin Gothic Book"/>
              </a:rPr>
              <a:t>Introversion can be misdiagnosed as Asperger Syndrome, Avoidant, Anti-social disorder or highly sensitive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e3b30"/>
                </a:solidFill>
                <a:latin typeface="Franklin Gothic Book"/>
              </a:rPr>
              <a:t>Introverts constitute about 25% of the population but 65-70% of gifted and talented students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The main difference between an introvert and extravert is how they source their energy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Introverts are energy </a:t>
            </a:r>
            <a:r>
              <a:rPr b="0" i="1" lang="en-GB" sz="3200" spc="-1" strike="noStrike">
                <a:solidFill>
                  <a:srgbClr val="4e3b30"/>
                </a:solidFill>
                <a:latin typeface="Franklin Gothic Book"/>
              </a:rPr>
              <a:t>conservers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Extraverts are energy </a:t>
            </a:r>
            <a:r>
              <a:rPr b="0" i="1" lang="en-GB" sz="3200" spc="-1" strike="noStrike">
                <a:solidFill>
                  <a:srgbClr val="4e3b30"/>
                </a:solidFill>
                <a:latin typeface="Franklin Gothic Book"/>
              </a:rPr>
              <a:t>spenders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Introverts look within for their rewards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Franklin Gothic Book"/>
              </a:rPr>
              <a:t>Extraverts look outside for theirs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304920" y="1553760"/>
            <a:ext cx="8686800" cy="53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Children are born with a natural temperament disposition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There is no way of knowing if a child will be introvert or extravert before birth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Introvert and extravert brains access different neurotransmitters into different habitual pathways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Temperament can not be changed at will.  Understanding innate traits allows us to emphasise strengths and minimise stress, however. 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4e3b30"/>
                </a:solidFill>
                <a:latin typeface="Franklin Gothic Book"/>
              </a:rPr>
              <a:t>Introverts and extraverts display different behaviours because of brain chemistry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304920" y="1553760"/>
            <a:ext cx="8686800" cy="49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e3b30"/>
                </a:solidFill>
                <a:latin typeface="Franklin Gothic Book"/>
              </a:rPr>
              <a:t>Skilled at listening and observing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e3b30"/>
                </a:solidFill>
                <a:latin typeface="Franklin Gothic Book"/>
              </a:rPr>
              <a:t>Caring, thoughtful, focused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e3b30"/>
                </a:solidFill>
                <a:latin typeface="Franklin Gothic Book"/>
              </a:rPr>
              <a:t>Self-contained, independent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e3b30"/>
                </a:solidFill>
                <a:latin typeface="Franklin Gothic Book"/>
              </a:rPr>
              <a:t>Make lasting relationships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e3b30"/>
                </a:solidFill>
                <a:latin typeface="Franklin Gothic Book"/>
              </a:rPr>
              <a:t>Set a good example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e3b30"/>
                </a:solidFill>
                <a:latin typeface="Franklin Gothic Book"/>
              </a:rPr>
              <a:t>Have a deep, long-term influence on groups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e3b30"/>
                </a:solidFill>
                <a:latin typeface="Franklin Gothic Book"/>
              </a:rPr>
              <a:t>Notice subtleties, changes and details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e3b30"/>
                </a:solidFill>
                <a:latin typeface="Franklin Gothic Book"/>
              </a:rPr>
              <a:t>Loyal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e3b30"/>
                </a:solidFill>
                <a:latin typeface="Franklin Gothic Book"/>
              </a:rPr>
              <a:t>Explore facts, feelings and how things work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0" name="Up Arrow 3"/>
          <p:cNvSpPr/>
          <p:nvPr/>
        </p:nvSpPr>
        <p:spPr>
          <a:xfrm>
            <a:off x="214200" y="1500120"/>
            <a:ext cx="571680" cy="4857840"/>
          </a:xfrm>
          <a:prstGeom prst="upArrow">
            <a:avLst>
              <a:gd name="adj1" fmla="val 50000"/>
              <a:gd name="adj2" fmla="val 50001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e3b30"/>
                </a:solidFill>
                <a:latin typeface="Franklin Gothic Book"/>
              </a:rPr>
              <a:t>Too sensitive, reclusive and closed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e3b30"/>
                </a:solidFill>
                <a:latin typeface="Franklin Gothic Book"/>
              </a:rPr>
              <a:t>Stay quiet even if they have the best idea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e3b30"/>
                </a:solidFill>
                <a:latin typeface="Franklin Gothic Book"/>
              </a:rPr>
              <a:t>Are uncertain of how to act and speak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e3b30"/>
                </a:solidFill>
                <a:latin typeface="Franklin Gothic Book"/>
              </a:rPr>
              <a:t>Trouble expressing themselves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e3b30"/>
                </a:solidFill>
                <a:latin typeface="Franklin Gothic Book"/>
              </a:rPr>
              <a:t>Get tired easily in social situations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e3b30"/>
                </a:solidFill>
                <a:latin typeface="Franklin Gothic Book"/>
              </a:rPr>
              <a:t>Appear awkward, aloof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e3b30"/>
                </a:solidFill>
                <a:latin typeface="Franklin Gothic Book"/>
              </a:rPr>
              <a:t>Blurt out the truth sometimes cruelly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e3b30"/>
                </a:solidFill>
                <a:latin typeface="Franklin Gothic Book"/>
              </a:rPr>
              <a:t>Difficult to figure out. 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e3b30"/>
                </a:solidFill>
                <a:latin typeface="Franklin Gothic Book"/>
              </a:rPr>
              <a:t>Hard work. High maintenance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e3b30"/>
                </a:solidFill>
                <a:latin typeface="Franklin Gothic Book"/>
              </a:rPr>
              <a:t>Can unsettle extraverts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3" name="Down Arrow 3"/>
          <p:cNvSpPr/>
          <p:nvPr/>
        </p:nvSpPr>
        <p:spPr>
          <a:xfrm>
            <a:off x="214200" y="1571760"/>
            <a:ext cx="500040" cy="435744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e3b30"/>
                </a:solidFill>
                <a:latin typeface="Franklin Gothic Book"/>
              </a:rPr>
              <a:t>Easily fit in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e3b30"/>
                </a:solidFill>
                <a:latin typeface="Franklin Gothic Book"/>
              </a:rPr>
              <a:t>Energetic.  Get a lot done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e3b30"/>
                </a:solidFill>
                <a:latin typeface="Franklin Gothic Book"/>
              </a:rPr>
              <a:t>Confident in their own abilities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e3b30"/>
                </a:solidFill>
                <a:latin typeface="Franklin Gothic Book"/>
              </a:rPr>
              <a:t>Communicate freely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e3b30"/>
                </a:solidFill>
                <a:latin typeface="Franklin Gothic Book"/>
              </a:rPr>
              <a:t>Put others at ease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e3b30"/>
                </a:solidFill>
                <a:latin typeface="Franklin Gothic Book"/>
              </a:rPr>
              <a:t>Can spread enthusiasm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e3b30"/>
                </a:solidFill>
                <a:latin typeface="Franklin Gothic Book"/>
              </a:rPr>
              <a:t>Lively and up-front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e3b30"/>
                </a:solidFill>
                <a:latin typeface="Franklin Gothic Book"/>
              </a:rPr>
              <a:t>Good rapport.  Bring people together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6" name="Up Arrow 3"/>
          <p:cNvSpPr/>
          <p:nvPr/>
        </p:nvSpPr>
        <p:spPr>
          <a:xfrm>
            <a:off x="214200" y="1571760"/>
            <a:ext cx="571680" cy="4071960"/>
          </a:xfrm>
          <a:prstGeom prst="upArrow">
            <a:avLst>
              <a:gd name="adj1" fmla="val 50000"/>
              <a:gd name="adj2" fmla="val 49991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20:19:40Z</dcterms:created>
  <dc:creator>USER</dc:creator>
  <dc:description/>
  <dc:language>en-US</dc:language>
  <cp:lastModifiedBy>Kathleen Grim</cp:lastModifiedBy>
  <dcterms:modified xsi:type="dcterms:W3CDTF">2013-01-12T23:22:02Z</dcterms:modified>
  <cp:revision>36</cp:revision>
  <dc:subject/>
  <dc:title>“You’LL ALWAYS FIND ME IN THE         KITCHEN AT PARTIES.”</dc:title>
</cp:coreProperties>
</file>